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084-5CFA-469C-8798-15826E00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49C-ABAC-491A-9D0F-6AD95A5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A48-0132-4CDE-96EF-ECC27098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4B3-71A7-41A5-99C0-4BAE436F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3C1-4453-449C-8441-89AD408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7C5-E31D-44FE-9EF6-2CACA15A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984-9DBF-48AE-8B1B-71F8584A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A52-D243-4242-9295-194DA9A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BBF-2330-45E7-8930-DE35DE9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9DF-A3B8-421B-B4BF-39F41C4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E95-C7FA-4523-8296-1D0D8F1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041-C62B-44A5-872F-8AEDE7B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5A2-B603-4BCD-B070-7BC0066E7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362320" y="2590920"/>
            <a:ext cx="6781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Arial"/>
              </a:rPr>
              <a:t>Робототехни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Arial"/>
              </a:rPr>
              <a:t>профессия будущ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5105520" y="3954600"/>
            <a:ext cx="38862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уэр Викто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ца 4 класса «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«Лицей № 57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копьевс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ководитель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китина Надежд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280" y="6462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«Лицей № 57» Прокопьев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7878600" y="12600"/>
            <a:ext cx="12654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едицинские ро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5638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2600" y="2057400"/>
            <a:ext cx="3191040" cy="4286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141000" y="2057400"/>
            <a:ext cx="53272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+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имеют большую доступ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в сравнении с лапароскопически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более точное движение инстр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выводит изображение на эк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бионические протез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(управляются соб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нервной системой челове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164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Отсутствие обратной связ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(врачу необходимо тщате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отслеживать свои движ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чтобы не повредить тка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-   Узкое операционное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65240" y="1235160"/>
            <a:ext cx="88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Широко используются в медицине для диагностики и хирургических вмешательств. Имеют свои преимущества и недост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PROMOB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04920" y="5110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ым известным и популярным роботом российского производства, несомненно, является Promobot. Он экспортируется в 42 страны мира, поэтому его можно купить в Европе, США и даже Австрал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357280" y="1733400"/>
            <a:ext cx="38959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К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04920" y="511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бот Кики сделан в виде женщины и существует в разных вариантах.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ё можно встретить в аэропорту Казани и купить у неё мороженое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357280" y="1920960"/>
            <a:ext cx="38959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Экспериментальное анкетирование учащих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 4 класса «А» МБОУ «Лицей №57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Прокопьев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2"/>
          <a:stretch/>
        </p:blipFill>
        <p:spPr>
          <a:xfrm>
            <a:off x="635040" y="1473120"/>
            <a:ext cx="7950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здание и программирование робота из конструктора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LEGO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WEDO 2.0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дель «Прин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48172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4638600" y="1768320"/>
            <a:ext cx="450216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0" y="4052880"/>
            <a:ext cx="2619360" cy="9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53056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304560"/>
            <a:ext cx="890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шей обновляющейся экономике, которая выходит на новые рубежи, связанные с внедрением новых технологий, ей нужны и новые кадры, прежде всего кадры инженерные. Нужны люди, которые понимают, что такое программирование, робототехника»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—  В.В. Пу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380880" y="1828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каким образом мир современных технологий влияет на выбор нашей профессии в будущ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5316480" y="18097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путь развития робототехники в истории человечества, понять ее возможные перспективы развития в будущ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941560" y="27813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4" descr=""/>
          <p:cNvPicPr/>
          <p:nvPr/>
        </p:nvPicPr>
        <p:blipFill>
          <a:blip r:embed="rId2"/>
          <a:stretch/>
        </p:blipFill>
        <p:spPr>
          <a:xfrm>
            <a:off x="255600" y="2962440"/>
            <a:ext cx="8632800" cy="1536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777240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7200" y="4794120"/>
            <a:ext cx="8093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а исследовательского проекта: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отехника может быть не просто игрой, а серьезным занятием, которое поможет сделать выбор будущей профессии, а возможно и стать 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ahnschrift Light Condensed"/>
              </a:rPr>
              <a:t>Робототехника</a:t>
            </a:r>
            <a:r>
              <a:rPr b="1" lang="ru-RU" sz="2400" spc="-1" strike="noStrike">
                <a:solidFill>
                  <a:srgbClr val="0070c0"/>
                </a:solidFill>
                <a:latin typeface="Bahnschrift Light Condensed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ahnschrift Light Condensed"/>
              </a:rPr>
              <a:t>(</a:t>
            </a:r>
            <a:r>
              <a:rPr b="1" lang="ru-RU" sz="2400" spc="-1" strike="noStrike">
                <a:solidFill>
                  <a:srgbClr val="262673"/>
                </a:solidFill>
                <a:latin typeface="Bahnschrift Light Condensed"/>
              </a:rPr>
              <a:t>от робот и техника) - прикладная наука, занимающаяся разработкой   автоматизированных   технических  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67080" y="175248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b200"/>
                </a:solidFill>
                <a:latin typeface="Bahnschrift Light Condensed"/>
              </a:rPr>
              <a:t>3 закона </a:t>
            </a:r>
            <a:r>
              <a:rPr b="1" i="1" lang="ru-RU" sz="2800" spc="-1" strike="noStrike">
                <a:solidFill>
                  <a:srgbClr val="ffc000"/>
                </a:solidFill>
                <a:latin typeface="Bahnschrift Light Condensed"/>
              </a:rPr>
              <a:t>робототехники </a:t>
            </a:r>
            <a:r>
              <a:rPr b="1" lang="ru-RU" sz="2800" spc="-1" strike="noStrike">
                <a:solidFill>
                  <a:srgbClr val="ffc000"/>
                </a:solidFill>
                <a:latin typeface="Bahnschrift Light Condensed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не может навредить человеку или, бездействуя, допустить, чтобы человеку был нанесен вре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должен подчиняться приказам, которые дает ему человек за исключением случаев, когда такие приказы противоречат первому правил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должен защищать свое существование до тех пор эта защита не противоречит первому или второму прав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Цель создания роботов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90760" y="190512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здание эффективного помощ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пособного совершать операции по достижению целей, поставленных челове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Иными сло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b200"/>
                </a:solidFill>
                <a:latin typeface="Arial"/>
              </a:rPr>
              <a:t>главная цель создания роботов</a:t>
            </a:r>
            <a:r>
              <a:rPr b="0" lang="ru-RU" sz="1800" spc="-1" strike="noStrike">
                <a:solidFill>
                  <a:srgbClr val="eab2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освободить человека от однотип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рутинной работы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и облегчить его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стория создания робо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733920" y="1752480"/>
            <a:ext cx="532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449280" algn="just">
              <a:lnSpc>
                <a:spcPct val="150000"/>
              </a:lnSpc>
              <a:spcBef>
                <a:spcPts val="363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ые мысли к созданию роботов возникли еще до нашей эры: в середине 3-го тысячелетия египтяне изобрели «думающих машин» - внутри статуй прятались жрецы, чтобы давать предсказания и советы. 1495 году Леонардо да Винчи создает проект механического рыцаря, чтобы показать, что машина может двигаться, как человек. Но Леонардо так его и не сконструировал. Это изобретение эпохи Возрождения считается первым в истории робо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3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Image 4" descr=""/>
          <p:cNvPicPr/>
          <p:nvPr/>
        </p:nvPicPr>
        <p:blipFill>
          <a:blip r:embed="rId3"/>
          <a:stretch/>
        </p:blipFill>
        <p:spPr>
          <a:xfrm>
            <a:off x="1676520" y="236232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Image 6" descr=""/>
          <p:cNvPicPr/>
          <p:nvPr/>
        </p:nvPicPr>
        <p:blipFill>
          <a:blip r:embed="rId4"/>
          <a:stretch/>
        </p:blipFill>
        <p:spPr>
          <a:xfrm>
            <a:off x="101520" y="2971800"/>
            <a:ext cx="157500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Image 5" descr=""/>
          <p:cNvPicPr/>
          <p:nvPr/>
        </p:nvPicPr>
        <p:blipFill>
          <a:blip r:embed="rId5"/>
          <a:stretch/>
        </p:blipFill>
        <p:spPr>
          <a:xfrm>
            <a:off x="1676520" y="3657600"/>
            <a:ext cx="154152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Image 7" descr=""/>
          <p:cNvPicPr/>
          <p:nvPr/>
        </p:nvPicPr>
        <p:blipFill>
          <a:blip r:embed="rId6"/>
          <a:stretch/>
        </p:blipFill>
        <p:spPr>
          <a:xfrm>
            <a:off x="101520" y="4505400"/>
            <a:ext cx="1575000" cy="1285920"/>
          </a:xfrm>
          <a:prstGeom prst="rect">
            <a:avLst/>
          </a:prstGeom>
          <a:ln w="0">
            <a:noFill/>
          </a:ln>
        </p:spPr>
      </p:pic>
      <p:pic>
        <p:nvPicPr>
          <p:cNvPr id="65" name="Image 8" descr=""/>
          <p:cNvPicPr/>
          <p:nvPr/>
        </p:nvPicPr>
        <p:blipFill>
          <a:blip r:embed="rId7"/>
          <a:stretch/>
        </p:blipFill>
        <p:spPr>
          <a:xfrm>
            <a:off x="1676520" y="5148360"/>
            <a:ext cx="15415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Схема 2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822960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4" descr=""/>
          <p:cNvPicPr/>
          <p:nvPr/>
        </p:nvPicPr>
        <p:blipFill>
          <a:blip r:embed="rId3"/>
          <a:stretch/>
        </p:blipFill>
        <p:spPr>
          <a:xfrm>
            <a:off x="457200" y="1603440"/>
            <a:ext cx="82296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N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049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озданный во Франции в 2012 году, является антропоморфным роботом, который широко используется более чем в 200 учебных заведениях по всему миру. Он помогает ученикам осваивать компьютерные науки, математику и физику, а также изучает взаимодействие между человеком и маш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5790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ПА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04920" y="5110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аро — это робот, выполненный в форме детеныша тюленя, предназначенный для того, чтобы оказывать успокаивающее воздействие и вызывать положительные эмоции у пациентов больниц и домов престарел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905120" y="1539720"/>
            <a:ext cx="48006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МИКРО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11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Этот «доктор» состоит из трёх золотых компонентов, предназначенных для доставки лекарств непосредственно в пораженную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80060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5-02-20T05:24:47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